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1D7-90AB-492E-B041-6C3A29E2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101-56D4-4466-807A-AE943A6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D27-DAEE-49E2-B78E-373C751A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958-13B7-4FE3-BCFE-85C0494F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282-F8A5-48E1-90FF-80EB4E9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3A5-6D36-4245-86FD-473DA5F2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3E9-0878-421F-837C-1A8F5F60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220-36F3-4C9E-87A9-7D8B17C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305-D894-4399-86CA-B3A68F5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D2A-0B68-4056-9BDA-2A99CA12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80B-6F21-4493-AA30-18A65CE5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EAE-20AA-4662-8D4F-DD978EF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289-314F-414D-A3F0-2663847F65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sson24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n E-mail to Grandpa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860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冀教版 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3520" y="38088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the correct forms of the words or phrases in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you spend too much time __________ online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parents will be a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I don't know how to __________ a new compu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help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People began to ________ for the lost k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When I want to relax, I turn on the radio and lis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my favourite radio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L Ming wants to ____________ and searc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for more information about E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1447920"/>
            <a:ext cx="6933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rch    chat    program    go online   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562720" y="2057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267080" y="29718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05320" y="3809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419720" y="4648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gra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6576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116080" y="4876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etell the sto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228600" y="533520"/>
            <a:ext cx="830592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Wang Mei has a __ __. She is  writing__ __ on  it.On the new laptop,She can use __ __ __to talk with others. It even has __. She can see __ __ as they talk . She can do the research on the Internet, She  types __ __ __into the __ __. It’s easy to find__ __ __ __.She likes reading. She  knows how to __ __online. She will __some to __ __. With the Internet She can  find her way around the city online. She  uses __ __ __on the Internet. It can give her __to __ she wants to g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ork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761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llowing are some common ways to communicate with your friends. Check which ones you use most often and explain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57200" y="3121200"/>
            <a:ext cx="8305920" cy="2531160"/>
            <a:chOff x="457200" y="3121200"/>
            <a:chExt cx="8305920" cy="2531160"/>
          </a:xfrm>
        </p:grpSpPr>
        <p:sp>
          <p:nvSpPr>
            <p:cNvPr id="87" name="矩形 3"/>
            <p:cNvSpPr/>
            <p:nvPr/>
          </p:nvSpPr>
          <p:spPr>
            <a:xfrm>
              <a:off x="457200" y="3121200"/>
              <a:ext cx="8305920" cy="253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write e-mails                 write lett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make a phone call        visit his/ her hou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chat online                    other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I like to communicate with my friends by__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because________________________________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533160" y="327348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5"/>
            <p:cNvSpPr/>
            <p:nvPr/>
          </p:nvSpPr>
          <p:spPr>
            <a:xfrm>
              <a:off x="4495680" y="327348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6"/>
            <p:cNvSpPr/>
            <p:nvPr/>
          </p:nvSpPr>
          <p:spPr>
            <a:xfrm>
              <a:off x="533160" y="373104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7"/>
            <p:cNvSpPr/>
            <p:nvPr/>
          </p:nvSpPr>
          <p:spPr>
            <a:xfrm>
              <a:off x="533160" y="41886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8"/>
            <p:cNvSpPr/>
            <p:nvPr/>
          </p:nvSpPr>
          <p:spPr>
            <a:xfrm>
              <a:off x="4495680" y="373104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4495680" y="41886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86868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your classmates often do on the Internet? Do a survey of your members in your group and write down the top two ques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19520" y="1459080"/>
            <a:ext cx="88448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Use the Internet properly  and carefu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Don’t spend too much time on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985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Remember how to use the Internet in 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Find more stories about helping others by using the Interne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5200" y="32767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you do for work, for study, for fun on the Internet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914400" y="14479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ink about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65920" y="914400"/>
            <a:ext cx="8093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with friends and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t online with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b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with stra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d, receive or post photos with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y online ga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load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p on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04920" y="1523880"/>
            <a:ext cx="853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lk with your partn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you like to do on the Inter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ce6f0cdb75aaecea25cef0ec8f7c015"/>
          <p:cNvPicPr/>
          <p:nvPr/>
        </p:nvPicPr>
        <p:blipFill>
          <a:blip r:embed="rId1"/>
          <a:srcRect l="0" t="0" r="0" b="38929"/>
          <a:stretch/>
        </p:blipFill>
        <p:spPr>
          <a:xfrm>
            <a:off x="304920" y="1022400"/>
            <a:ext cx="3084480" cy="204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 and write “T” or “F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angMei is writing an e-mail on her new computer.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angMei wants to set up a time to go online together with Danny.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is week at school, WangMei wrote a report about Christmas.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WangMei will download some e-books for her grandpa.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3965760" y="1676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422960" y="4952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556680" y="2819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861160" y="38862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952880" y="3352680"/>
            <a:ext cx="1295640" cy="1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5105520" y="1752480"/>
            <a:ext cx="3581280" cy="1295280"/>
            <a:chOff x="5105520" y="1752480"/>
            <a:chExt cx="3581280" cy="1295280"/>
          </a:xfrm>
        </p:grpSpPr>
        <p:grpSp>
          <p:nvGrpSpPr>
            <p:cNvPr id="56" name="Group 10"/>
            <p:cNvGrpSpPr/>
            <p:nvPr/>
          </p:nvGrpSpPr>
          <p:grpSpPr>
            <a:xfrm>
              <a:off x="5105520" y="1752480"/>
              <a:ext cx="3581280" cy="762480"/>
              <a:chOff x="5105520" y="1752480"/>
              <a:chExt cx="3581280" cy="762480"/>
            </a:xfrm>
          </p:grpSpPr>
          <p:sp>
            <p:nvSpPr>
              <p:cNvPr id="57" name="Oval 11"/>
              <p:cNvSpPr/>
              <p:nvPr/>
            </p:nvSpPr>
            <p:spPr>
              <a:xfrm flipH="1">
                <a:off x="5105520" y="1752480"/>
                <a:ext cx="3581280" cy="76248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2"/>
              <p:cNvSpPr/>
              <p:nvPr/>
            </p:nvSpPr>
            <p:spPr>
              <a:xfrm>
                <a:off x="5715000" y="1752480"/>
                <a:ext cx="262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her grandp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13"/>
            <p:cNvSpPr/>
            <p:nvPr/>
          </p:nvSpPr>
          <p:spPr>
            <a:xfrm flipV="1">
              <a:off x="5638680" y="2438640"/>
              <a:ext cx="457200" cy="609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343400" y="2743200"/>
            <a:ext cx="3581280" cy="1295280"/>
            <a:chOff x="4343400" y="2743200"/>
            <a:chExt cx="3581280" cy="1295280"/>
          </a:xfrm>
        </p:grpSpPr>
        <p:grpSp>
          <p:nvGrpSpPr>
            <p:cNvPr id="61" name="Group 15"/>
            <p:cNvGrpSpPr/>
            <p:nvPr/>
          </p:nvGrpSpPr>
          <p:grpSpPr>
            <a:xfrm>
              <a:off x="4343400" y="2743200"/>
              <a:ext cx="3581280" cy="762480"/>
              <a:chOff x="4343400" y="2743200"/>
              <a:chExt cx="3581280" cy="762480"/>
            </a:xfrm>
          </p:grpSpPr>
          <p:sp>
            <p:nvSpPr>
              <p:cNvPr id="62" name="Oval 16"/>
              <p:cNvSpPr/>
              <p:nvPr/>
            </p:nvSpPr>
            <p:spPr>
              <a:xfrm flipH="1">
                <a:off x="4343400" y="2743200"/>
                <a:ext cx="3581280" cy="76248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7"/>
              <p:cNvSpPr/>
              <p:nvPr/>
            </p:nvSpPr>
            <p:spPr>
              <a:xfrm>
                <a:off x="4952880" y="2743200"/>
                <a:ext cx="262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East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Line 18"/>
            <p:cNvSpPr/>
            <p:nvPr/>
          </p:nvSpPr>
          <p:spPr>
            <a:xfrm flipV="1">
              <a:off x="4876560" y="3429360"/>
              <a:ext cx="457200" cy="609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9"/>
          <p:cNvSpPr/>
          <p:nvPr/>
        </p:nvSpPr>
        <p:spPr>
          <a:xfrm>
            <a:off x="3581280" y="4419720"/>
            <a:ext cx="2133720" cy="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hat is WangMei wri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can she do with the Inter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the lesson and answer the ques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838080" y="2286000"/>
            <a:ext cx="8305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is writing an e-mail on her new lap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talk with others , d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esearch, read e-books and find 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ay around the city on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Paragraph 3~6 and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539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How can she talk with other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How can she do the research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How can she read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How can she find her way around the c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292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ow can she talk with others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ow can she do the research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19018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use a chat program. It even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ideo. She can see each other as they t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type the right questions into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earch eng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How can she read on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How can she find her way around the cit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80880" y="198108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download e-books on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he can use a map program on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t can give her directions to anywhere s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ants to g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28:22Z</dcterms:created>
  <dc:creator> </dc:creator>
  <dc:description> </dc:description>
  <dc:language>en-US</dc:language>
  <cp:lastModifiedBy>Administrator</cp:lastModifiedBy>
  <dcterms:modified xsi:type="dcterms:W3CDTF">2019-01-02T02:28:4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